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283C-A426-4499-8625-978485EF62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акроэкономическое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плик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пликатор – это коэффициент, который показывает, во сколько раз вырастает равновесный уровень национального дохода по отношению к росту автономных затр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k = Q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k – мультипликатор, Q – национальный доход, A – автономные затр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 = Ca + Ia +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a – автономное потребление, Ia – автономные инвестиц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 – государственные закупки товаров и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пликатор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пликатор – это коэффициент, который показывает, во сколько раз вырастает равновесный уровень национального дохода по отношению к росту автономных затрат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k = Q/A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k – мультипликатор, Q – национальный доход, A – автономные затраты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 = Ca + Ia + 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a – автономное потребление, Ia – автономные инвестиции,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 – государственные закупки товаров и услуг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руктуре совокупного спроса выделяю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потребительские товары и услуги (C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инвестиционные товары ( I 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товары и услуги со стороны государства ( G 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экспорт – разница между экспортом и импортом (X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ый спрос ( AD – aggregate demand ) – это сумма всех видов спроса или суммарный спрос на всю конечную продукцию и услуги, произведенные в обще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руктуре совокупного спроса выделяют: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потребительские товары и услуги (C);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инвестиционные товары ( I );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товары и услуги со стороны государства ( G );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экспорт – разница между экспортом и импортом (X)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ый спрос ( AD – aggregate demand ) – это сумма всех видов спроса или суммарный спрос на всю конечную продукцию и услуги, произведенные в обществе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овокупный спрос можно выразить формуло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D = C + I + G + X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овокупного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овокупный спрос можно выразить формуло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D = C + I + G + X </a:t>
            </a:r>
            <a:br>
              <a:rPr sz="1200"/>
            </a:b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овокупного спроса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авнение Ирвинга Фиш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 × ν =Q ×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 - количество денег в обращении; ν - скорость их обращения; P - цена; Q - объем продаж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денег, которое находится в обращении умноженное на скорость обращения денег должно равняться объему выпуска товаров и услуг, производимых в течение года, умноженному на цены на эти това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авнение Ирвинга Фишера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 × ν =Q × P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 - количество денег в обращении; ν - скорость их обращения; P - цена; Q - объем продаж товаров и услуг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денег, которое находится в обращении умноженное на скорость обращения денег должно равняться объему выпуска товаров и услуг, производимых в течение года, умноженному на цены на эти товары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рвинг Фишер (1867-1947) - американский ученый-экономист. Начав свою научную деятельность как математик, он затем переключился на экономическую теорию, был одним из создателей Эконометрического общества и стал в 1930 г. первым его президент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рвинг Фишер (1867-1947) - американский ученый-экономист. Начав свою научную деятельность как математик, он затем переключился на экономическую теорию, был одним из создателей Эконометрического общества и стал в 1930 г. первым его президентом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место показателя скорости оборота денег v подставим коэффициент m — величину, обратную скор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я денег:                Учтем также, что цены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, согласно нашему предположению, неизменны, а предложение денег у нас принимается как реальное. Поэтому и спрос на деньги также должен быть реальным показателем. Это значит, что Р (уровень цен) можно приравнять к 1. Поскольку Р= 1, а v мы заменяем на т, то уравнение принимает ви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Мd — спрос на деньги в реальном исчисл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уравнения Фишера следует, что спрос не деньги выражается формуло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место показателя скорости оборота денег v подставим коэффициент m — величину, обратную скорости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я денег:                Учтем также, что цены на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, согласно нашему предположению, неизменны, а предложение денег у нас принимается как реальное. Поэтому и спрос на деньги также должен быть реальным показателем. Это значит, что Р (уровень цен) можно приравнять к 1. Поскольку Р= 1, а v мы заменяем на т, то уравнение принимает вид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Мd — спрос на деньги в реальном исчислении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уравнения Фишера следует, что спрос не деньги выражается формулой: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Mi – величина процентного реагирования спроса на деньги, i – процентная став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да формула национального дохо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ула спроса на деньги с учетом процентной ставки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Mi – величина процентного реагирования спроса на деньги, i – процентная ставка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да формула национального дохода: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ула спроса на деньги с учетом процентной ставки:</a:t>
            </a:r>
            <a:br>
              <a:rPr sz="1200"/>
            </a:b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е предложение ( AS – aggregate supply ) – вся конечная продукция (в стоимостном выражении) произведенная (предложенная) в общест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овокупного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е предложение ( AS – aggregate supply ) – вся конечная продукция (в стоимостном выражении) произведенная (предложенная) в обществе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овокупного предложения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он Мейнард Кейнс (1883-1946) - известный английский экономист. Кейнс поступил на государственную службу в 1906 г.; был членом Королевской комиссии по денежному обращению и финансам Индии (1913-1914 гг.); работая в казначействе, был главным его представителем на Парижской мирной конферен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он Мейнард Кейнс (1883-1946) - известный английский экономист. Кейнс поступил на государственную службу в 1906 г.; был членом Королевской комиссии по денежному обращению и финансам Индии (1913-1914 гг.); работая в казначействе, был главным его представителем на Парижской мирной конференции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сечение кривых совокупного спроса AD и совокупного предложения AS дает точку общего экономического равновесия. Это означает, что экономика находится в краткосрочном равновесии, при котором уровень цен на конечную продукцию и реальный национальный продукт устанавливаются на основе равенства совокупного спроса и совокупного предло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сечение кривых совокупного спроса AD и совокупного предложения AS дает точку общего экономического равновесия. Это означает, что экономика находится в краткосрочном равновесии, при котором уровень цен на конечную продукцию и реальный национальный продукт устанавливаются на основе равенства совокупного спроса и совокупного предложения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 – это такое состояние экономической системы, когда достигнута совокупная сбалансированность, пропорциональность между экономическими потоками товаров, услуг и факторов производства, доходов и расходов, спросом и предложением, материально вещественными и финансовыми потоками и п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 – это такое состояние экономической системы, когда достигнута совокупная сбалансированность, пропорциональность между экономическими потоками товаров, услуг и факторов производства, доходов и расходов, спросом и предложением, материально вещественными и финансовыми потоками и пр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, которое возникает при пересечении трех кривых: кривой совокупного спроса ( AD ), краткосрочной кривой совокупного предложения ( AS ) и долгосрочной кривой совокупного предложения ( LAS ), является долгосрочным равновеси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, которое возникает при пересечении трех кривых: кривой совокупного спроса ( AD ), краткосрочной кривой совокупного предложения ( AS ) и долгосрочной кривой совокупного предложения ( LAS ), является долгосрочным равновесием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модели макроэкономического равновес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нсуа Кенэ (1694-1774) – французский экономист XVIII в, глава школы физиократов. Разделив общество на три класса: землевладельцев, фермеров и ремесленников, в зависимости от их участия в воспроизводственном процессе, он показал, где создается совокупный и чистый продукт, как он распределяется, где возникают доходы, как возмещаются издержки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модели макроэкономического равновесия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нсуа Кенэ (1694-1774) – французский экономист XVIII в, глава школы физиократов. Разделив общество на три класса: землевладельцев, фермеров и ремесленников, в зависимости от их участия в воспроизводственном процессе, он показал, где создается совокупный и чистый продукт, как он распределяется, где возникают доходы, как возмещаются издержки 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 Батист Сэ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 Батист Сэй (1767-1832), французский экономист, широко пропагандировавший идеи А.Смита во Франции. Согласно позиции Сэя, предложение создает свой собственный спрос, товары создаются лишь для того, чтобы на вырученные деньги получить какие-либо бла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 Батист Сэй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 Батист Сэй (1767-1832), французский экономист, широко пропагандировавший идеи А.Смита во Франции. Согласно позиции Сэя, предложение создает свой собственный спрос, товары создаются лишь для того, чтобы на вырученные деньги получить какие-либо блага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он Вальра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ьрас Леон (1834-1910) - французский экономист, живший в Швейцарии. Он исходил из того, что проблема общего экономического равновесия решаема, и это можно доказать математически.  Основную роль в системе Вальраса играют равновесные цены, т.е. цены, обеспечивающие равенство спроса и предложения для каждого това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он Вальрас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ьрас Леон (1834-1910) - французский экономист, живший в Швейцарии. Он исходил из того, что проблема общего экономического равновесия решаема, и это можно доказать математически.  Основную роль в системе Вальраса играют равновесные цены, т.е. цены, обеспечивающие равенство спроса и предложения для каждого товара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срочное                             долгосрочн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екуще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альное                                      реальн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еоретически желаемо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срочное                             долгосрочное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екущее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альное                                      реальное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еоретически желаемое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ичное (установив-шееся в отдельных отраслях и сферах экономики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авновесие экономической системы в целом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е (оптимальная сбалансированность экономической системы, ее идеальная пропорциональность – высшая цель структурной политики обществ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ичное (установив-шееся в отдельных отраслях и сферах экономики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авновесие экономической системы в целом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е (оптимальная сбалансированность экономической системы, ее идеальная пропорциональность – высшая цель структурной политики общества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ойчив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 ответ 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й импульс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ушающ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вращается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ойчив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устойчивое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сле внешнего воздействия экономика не может восстановиться самостоятельно, то равновесие называют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экономическое равновес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ойчиво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 ответ на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й импульс,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ушающий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,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о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вращается в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ойчиво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устойчивое 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сле внешнего воздействия экономика не может восстановиться самостоятельно, то равновесие называют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 на рынке благ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(классическая концепци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 на рынке благ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(классическая концепция)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НОМНОЕ ПОТРЕБЛЕНИЕ - та часть потребительских расходов населения или та часть его потребления, которая не зависит от величины национального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УЦИРОВАННОЕ ПОТРЕБЛЕНИЕ - та часть потребления населения, которая находится в зависимости от размера национального дохода и изменяется вместе с изменением наци­онального дох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ление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НОМНОЕ ПОТРЕБЛЕНИЕ - та часть потребительских расходов населения или та часть его потребления, которая не зависит от величины национального дохода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УЦИРОВАННОЕ ПОТРЕБЛЕНИЕ - та часть потребления населения, которая находится в зависимости от размера национального дохода и изменяется вместе с изменением наци­онального дохода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ая склонность к потреблению и предельная склонность к сбережен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е приращения потребления к приращению дохода называется ПРЕДЕЛЬНОЙ СКЛОННОСТЬЮ К ПОТРЕБЛ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е приращения сбережений к приращению дохода называется ПРЕДЕЛЬНОЙ СКЛОННОСТЬЮ К СБЕРЕЖ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ая склонность к потреблению и предельная склонность к сбережениям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е приращения потребления к приращению дохода называется ПРЕДЕЛЬНОЙ СКЛОННОСТЬЮ К ПОТРЕБЛЕНИЮ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е приращения сбережений к приращению дохода называется ПРЕДЕЛЬНОЙ СКЛОННОСТЬЮ К СБЕРЕЖЕНИЯМ.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доход - Q ; потребление - С; сбережения - S; приращение дохода, приращение потребления и приращение сбережений соответственно ∆Q, ∆С и ∆S; предельная склонность к потреблению — с и предельная склонность к сбережениям —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= С +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= ∆С + ∆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 = ∆С/∆Q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 = ∆S/∆Q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 + s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доход - Q ; потребление - С; сбережения - S; приращение дохода, приращение потребления и приращение сбережений соответственно ∆Q, ∆С и ∆S; предельная склонность к потреблению — с и предельная склонность к сбережениям — s.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= С + S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 = ∆С + ∆S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 = ∆С/∆Q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 = ∆S/∆Q 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 + s = 1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8614-2A0D-40FA-8146-093DEE38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9294-7545-4C64-9BE6-A969B30F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1C8E-5DB1-449F-9B95-0FA727F25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1A5C-1F60-4384-B3A5-8C3A9B109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2B6F-BF7E-4235-AF08-765C8AAE8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D99A-D76F-4DC8-8C1A-C73692EE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AA15-FB71-4996-B31D-439C15D0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5EF9-881C-4470-AE00-792FF9D1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DC0A-69B0-488E-A6A0-C4FCF0AB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60A9-1AA5-4553-B5E2-EC1D2872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639B-BA65-4353-9C0B-4F9468B5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4348-0768-45E4-9593-44744AC9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72CC-F92D-4EEE-9DDF-B2AAFC20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18D7-5437-43C5-9EF4-3289A222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5E41-6D29-4210-85FD-4B38D79E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F47C-58AD-4C1D-9ED0-59507967E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3AF2-9C40-4CA6-B5FF-EA046A8A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645D-736C-4F53-BA73-E3E1D554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F321-7FA1-405D-9319-DB138511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EAF2-6878-4DB9-AB00-70B46444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383D-7E0B-4D18-8FB1-B1A5E6EE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21F4-70AE-4578-AFD3-43A83899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9EDD-4B5D-44DC-A236-6253187C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6F4B-8F3B-4359-A514-627140B9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E0FA-63F0-464C-90A0-344E136A45D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D7BF-39B8-496A-AAA5-7959821CD0F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yas.yuna.ru/?1879053312@0815995392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21556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Макроэкономическое </a:t>
            </a:r>
            <a:br>
              <a:rPr sz="4800"/>
            </a:b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равновесие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3013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Мультипликатор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15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66"/>
                </a:solidFill>
                <a:latin typeface="Arial"/>
              </a:rPr>
              <a:t>Мультипликатор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 –</a:t>
            </a:r>
            <a:r>
              <a:rPr b="0" lang="ru-RU" sz="2200" spc="-1" strike="noStrike">
                <a:solidFill>
                  <a:srgbClr val="006666"/>
                </a:solidFill>
                <a:latin typeface="Verdana"/>
              </a:rPr>
              <a:t> это коэффициент, который показывает, во сколько раз вырастает равновесный уровень национального дохода по отношению к росту автономных затра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900000" y="3357720"/>
            <a:ext cx="7704360" cy="33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Verdana"/>
              </a:rPr>
              <a:t>                        </a:t>
            </a:r>
            <a:r>
              <a:rPr b="1" i="1" lang="en-US" sz="3000" spc="-1" strike="noStrike">
                <a:solidFill>
                  <a:srgbClr val="006666"/>
                </a:solidFill>
                <a:latin typeface="Times New Roman"/>
              </a:rPr>
              <a:t>k </a:t>
            </a:r>
            <a:r>
              <a:rPr b="1" lang="en-US" sz="3000" spc="-1" strike="noStrike">
                <a:solidFill>
                  <a:srgbClr val="006666"/>
                </a:solidFill>
                <a:latin typeface="Times New Roman"/>
              </a:rPr>
              <a:t>=</a:t>
            </a:r>
            <a:r>
              <a:rPr b="1" i="1" lang="en-US" sz="3000" spc="-1" strike="noStrike">
                <a:solidFill>
                  <a:srgbClr val="006666"/>
                </a:solidFill>
                <a:latin typeface="Times New Roman"/>
              </a:rPr>
              <a:t> Q</a:t>
            </a:r>
            <a:r>
              <a:rPr b="1" lang="en-US" sz="3000" spc="-1" strike="noStrike">
                <a:solidFill>
                  <a:srgbClr val="006666"/>
                </a:solidFill>
                <a:latin typeface="Times New Roman"/>
              </a:rPr>
              <a:t>/</a:t>
            </a:r>
            <a:r>
              <a:rPr b="1" i="1" lang="en-US" sz="3000" spc="-1" strike="noStrike">
                <a:solidFill>
                  <a:srgbClr val="006666"/>
                </a:solidFill>
                <a:latin typeface="Times New Roman"/>
              </a:rPr>
              <a:t>A</a:t>
            </a:r>
            <a:endParaRPr b="0" i="1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где </a:t>
            </a:r>
            <a:r>
              <a:rPr b="0" i="1" lang="en-US" sz="2500" spc="-1" strike="noStrike">
                <a:solidFill>
                  <a:srgbClr val="006666"/>
                </a:solidFill>
                <a:latin typeface="Arial"/>
              </a:rPr>
              <a:t>k</a:t>
            </a:r>
            <a:r>
              <a:rPr b="1" i="1" lang="ru-RU" sz="25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– мультипликатор, </a:t>
            </a:r>
            <a:r>
              <a:rPr b="1" i="1" lang="en-US" sz="2500" spc="-1" strike="noStrike">
                <a:solidFill>
                  <a:srgbClr val="006666"/>
                </a:solidFill>
                <a:latin typeface="Arial"/>
              </a:rPr>
              <a:t>Q</a:t>
            </a:r>
            <a:r>
              <a:rPr b="1" i="1" lang="ru-RU" sz="25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– национальный доход, </a:t>
            </a:r>
            <a:r>
              <a:rPr b="1" i="1" lang="en-US" sz="2500" spc="-1" strike="noStrike">
                <a:solidFill>
                  <a:srgbClr val="006666"/>
                </a:solidFill>
                <a:latin typeface="Arial"/>
              </a:rPr>
              <a:t>A</a:t>
            </a:r>
            <a:r>
              <a:rPr b="1" i="1" lang="ru-RU" sz="25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– автономные затраты.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1" lang="en-US" sz="2500" spc="-1" strike="noStrike">
                <a:solidFill>
                  <a:srgbClr val="006666"/>
                </a:solidFill>
                <a:latin typeface="Times New Roman"/>
              </a:rPr>
              <a:t>A = C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6666"/>
                </a:solidFill>
                <a:latin typeface="Times New Roman"/>
              </a:rPr>
              <a:t> + I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6666"/>
                </a:solidFill>
                <a:latin typeface="Times New Roman"/>
              </a:rPr>
              <a:t> + G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en-US" sz="15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 –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автономное потребление, 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I</a:t>
            </a:r>
            <a:r>
              <a:rPr b="0" lang="en-US" sz="15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 – автономные инвестиции,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G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– государственные закупки товаров и услуг.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9640" y="2742840"/>
            <a:ext cx="8136000" cy="29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В структуре совокупного спроса выделяют: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спрос на потребительские товары и услуги (C);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спрос на инвестиционные товары ( I );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спрос на товары и услуги со стороны государства ( G );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чистый экспорт – разница между экспортом и импортом (X)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31376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6666"/>
                </a:solidFill>
                <a:latin typeface="Arial"/>
              </a:rPr>
              <a:t>Совокупный спрос ( AD – aggregate demand ) – это сумма всех видов спроса или суммарный спрос на всю конечную продукцию и услуги, произведенные в обществе.</a:t>
            </a:r>
            <a:endParaRPr b="0" lang="en-US" sz="23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313400" cy="180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66"/>
                </a:solidFill>
                <a:latin typeface="Arial"/>
              </a:rPr>
              <a:t>C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овокупный спрос можно выразить формулой:</a:t>
            </a:r>
            <a:br>
              <a:rPr sz="2500"/>
            </a:b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500"/>
            </a:b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AD = C + I + G + X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500"/>
            </a:b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24008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5" descr="http://market-pages.ru/images/makroec/image061.jpg"/>
          <p:cNvPicPr/>
          <p:nvPr/>
        </p:nvPicPr>
        <p:blipFill>
          <a:blip r:embed="rId1"/>
          <a:srcRect l="0" t="0" r="0" b="12155"/>
          <a:stretch/>
        </p:blipFill>
        <p:spPr>
          <a:xfrm>
            <a:off x="1835280" y="1916280"/>
            <a:ext cx="5545080" cy="37242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1979640" y="5877000"/>
            <a:ext cx="55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Verdana"/>
              </a:rPr>
              <a:t>Кривая совокупного спроса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258920" y="3284640"/>
            <a:ext cx="6881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0" lang="ru-RU" sz="2900" spc="-1" strike="noStrike">
                <a:solidFill>
                  <a:srgbClr val="006666"/>
                </a:solidFill>
                <a:latin typeface="Verdana"/>
              </a:rPr>
              <a:t>Уравнение Ирвинга Фишер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           </a:t>
            </a:r>
            <a:r>
              <a:rPr b="0" lang="en-US" sz="35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 × </a:t>
            </a:r>
            <a:r>
              <a:rPr b="0" i="1" lang="el-GR" sz="45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ν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 =</a:t>
            </a:r>
            <a:r>
              <a:rPr b="0" lang="en-US" sz="3500" spc="-1" strike="noStrike">
                <a:solidFill>
                  <a:srgbClr val="006666"/>
                </a:solidFill>
                <a:latin typeface="Arial"/>
              </a:rPr>
              <a:t>Q × P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М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- количество денег в обращении; </a:t>
            </a:r>
            <a:r>
              <a:rPr b="0" i="1" lang="el-GR" sz="35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ν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- скорость их обращения; </a:t>
            </a: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P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- цена; </a:t>
            </a: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Q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- объем продаж товаров и услу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187280" y="1052640"/>
            <a:ext cx="7313760" cy="20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Количество денег, которое находится в обращении умноженное на скорость обращения денег должно равняться объему выпуска товаров и услуг, производимых в течение года, умноженному на цены на эти товары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5" descr="http://banking.mfpa.ru/economist/irving_fisher.jpg"/>
          <p:cNvPicPr/>
          <p:nvPr/>
        </p:nvPicPr>
        <p:blipFill>
          <a:blip r:embed="rId1"/>
          <a:stretch/>
        </p:blipFill>
        <p:spPr>
          <a:xfrm>
            <a:off x="1116000" y="1268280"/>
            <a:ext cx="3456000" cy="46087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5219640" y="1557360"/>
            <a:ext cx="3167280" cy="34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Ирвинг Фишер (1867-1947) - американский ученый-экономист. Начав свою научную деятельность как математик, он затем переключился на </a:t>
            </a:r>
            <a:r>
              <a:rPr b="0" lang="ru-RU" sz="18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экономическую теорию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, был одним из создателей Эконометрического общества и стал в 1930 г. первым его президентом.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9"/>
          <p:cNvSpPr/>
          <p:nvPr/>
        </p:nvSpPr>
        <p:spPr>
          <a:xfrm>
            <a:off x="971640" y="2565360"/>
            <a:ext cx="734364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Вместо показателя скорости оборота денег </a:t>
            </a:r>
            <a:r>
              <a:rPr b="0" i="1" lang="en-US" sz="2500" spc="-1" strike="noStrike">
                <a:solidFill>
                  <a:srgbClr val="006666"/>
                </a:solidFill>
                <a:latin typeface="Verdana"/>
              </a:rPr>
              <a:t>v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подставим коэффициент </a:t>
            </a:r>
            <a:r>
              <a:rPr b="0" i="1" lang="en-US" sz="1800" spc="-1" strike="noStrike">
                <a:solidFill>
                  <a:srgbClr val="006666"/>
                </a:solidFill>
                <a:latin typeface="Verdana"/>
              </a:rPr>
              <a:t>m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— величину, обратную скорости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обращения денег: 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              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Учтем также, что цены на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товары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и услуги, согласно нашему предположению, неизменны, а предложение денег 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у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нас принимается как реальное. Поэтому и спрос на деньги также должен быть реальным показателем. Это значит, что 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Р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(уровень цен) можно приравнять к 1. Поскольку 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Р=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1, а 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v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мы заменяем на 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т,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то уравнение принимает вид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где </a:t>
            </a:r>
            <a:r>
              <a:rPr b="1" i="1" lang="ru-RU" sz="2300" spc="-1" strike="noStrike">
                <a:solidFill>
                  <a:srgbClr val="006666"/>
                </a:solidFill>
                <a:latin typeface="Times New Roman"/>
              </a:rPr>
              <a:t>М</a:t>
            </a:r>
            <a:r>
              <a:rPr b="1" i="1" lang="en-US" sz="1500" spc="-1" strike="noStrike">
                <a:solidFill>
                  <a:srgbClr val="006666"/>
                </a:solidFill>
                <a:latin typeface="Times New Roman"/>
              </a:rPr>
              <a:t>d</a:t>
            </a:r>
            <a:r>
              <a:rPr b="0" i="1" lang="ru-RU" sz="1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— спрос на деньги в реальном исчислении.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31376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Из уравнения Фишера следует, что спрос не деньги выражается формулой:</a:t>
            </a: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Picture 8" descr="Eqn075"/>
          <p:cNvPicPr/>
          <p:nvPr/>
        </p:nvPicPr>
        <p:blipFill>
          <a:blip r:embed="rId1"/>
          <a:stretch/>
        </p:blipFill>
        <p:spPr>
          <a:xfrm>
            <a:off x="3851280" y="1484280"/>
            <a:ext cx="1368360" cy="10396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2"/>
          <p:cNvSpPr/>
          <p:nvPr/>
        </p:nvSpPr>
        <p:spPr>
          <a:xfrm>
            <a:off x="202248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11" descr=""/>
          <p:cNvPicPr/>
          <p:nvPr/>
        </p:nvPicPr>
        <p:blipFill>
          <a:blip r:embed="rId2"/>
          <a:stretch/>
        </p:blipFill>
        <p:spPr>
          <a:xfrm>
            <a:off x="3276720" y="3357720"/>
            <a:ext cx="1152360" cy="7365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5"/>
          <p:cNvSpPr/>
          <p:nvPr/>
        </p:nvSpPr>
        <p:spPr>
          <a:xfrm>
            <a:off x="1943280" y="207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3"/>
          <a:stretch/>
        </p:blipFill>
        <p:spPr>
          <a:xfrm>
            <a:off x="3276720" y="5805360"/>
            <a:ext cx="2303280" cy="3891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6"/>
          <p:cNvSpPr/>
          <p:nvPr/>
        </p:nvSpPr>
        <p:spPr>
          <a:xfrm>
            <a:off x="3276720" y="3284640"/>
            <a:ext cx="5032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331640" y="2781000"/>
            <a:ext cx="7313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где </a:t>
            </a:r>
            <a:r>
              <a:rPr b="0" lang="en-US" sz="25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1" i="1" lang="en-US" sz="1500" spc="-1" strike="noStrike">
                <a:solidFill>
                  <a:srgbClr val="006666"/>
                </a:solidFill>
                <a:latin typeface="Times New Roman"/>
              </a:rPr>
              <a:t>i 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–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величина процентного реагирования спроса на деньги, </a:t>
            </a:r>
            <a:r>
              <a:rPr b="1" i="1" lang="en-US" sz="2300" spc="-1" strike="noStrike">
                <a:solidFill>
                  <a:srgbClr val="006666"/>
                </a:solidFill>
                <a:latin typeface="Times New Roman"/>
              </a:rPr>
              <a:t>i –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процентная ставка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Тогда формула национального дохода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386480" cy="157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Формула спроса на деньги с учетом процентной ставки:</a:t>
            </a:r>
            <a:br>
              <a:rPr sz="2500"/>
            </a:br>
            <a:endParaRPr b="0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189240" y="242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4681440" cy="1025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"/>
          <p:cNvPicPr/>
          <p:nvPr/>
        </p:nvPicPr>
        <p:blipFill>
          <a:blip r:embed="rId2"/>
          <a:stretch/>
        </p:blipFill>
        <p:spPr>
          <a:xfrm>
            <a:off x="2843280" y="4581360"/>
            <a:ext cx="3456000" cy="114012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31376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Arial"/>
              </a:rPr>
              <a:t>Совокупное предложение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 ( AS – aggregate supply ) – вся конечная продукция (в стоимостном выражении) произведенная (предложенная) в обществе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042920" y="5950080"/>
            <a:ext cx="6913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Кривая совокупного предложения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Picture 6" descr="image063"/>
          <p:cNvPicPr/>
          <p:nvPr/>
        </p:nvPicPr>
        <p:blipFill>
          <a:blip r:embed="rId1"/>
          <a:srcRect l="0" t="0" r="0" b="19781"/>
          <a:stretch/>
        </p:blipFill>
        <p:spPr>
          <a:xfrm>
            <a:off x="2124000" y="2421000"/>
            <a:ext cx="4537080" cy="348300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396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Джон Мейнард Кейнс (1883-1946) - известный английский экономист. Кейнс поступил на государственную службу в 1906 г.; был членом Королевской комиссии по денежному обращению и финансам Индии (1913-1914 гг.); работая в казначействе, был главным его представителем на Парижской мирной конференции.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Picture 5" descr="keynes_large"/>
          <p:cNvPicPr/>
          <p:nvPr/>
        </p:nvPicPr>
        <p:blipFill>
          <a:blip r:embed="rId1"/>
          <a:stretch/>
        </p:blipFill>
        <p:spPr>
          <a:xfrm>
            <a:off x="4643280" y="981000"/>
            <a:ext cx="3965760" cy="4940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66960" y="260280"/>
            <a:ext cx="8177040" cy="266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Пересечение кривых совокупного спроса AD и совокупного 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предложения AS дает точку </a:t>
            </a:r>
            <a:r>
              <a:rPr b="1" i="1" lang="ru-RU" sz="2200" spc="-1" strike="noStrike">
                <a:solidFill>
                  <a:srgbClr val="006666"/>
                </a:solidFill>
                <a:latin typeface="Arial"/>
              </a:rPr>
              <a:t>общего экономического равновесия</a:t>
            </a:r>
            <a:r>
              <a:rPr b="1" lang="ru-RU" sz="2200" spc="-1" strike="noStrike">
                <a:solidFill>
                  <a:srgbClr val="006666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 Это означает, что экономика находится в </a:t>
            </a:r>
            <a:r>
              <a:rPr b="1" i="1" lang="ru-RU" sz="2200" spc="-1" strike="noStrike">
                <a:solidFill>
                  <a:srgbClr val="006666"/>
                </a:solidFill>
                <a:latin typeface="Arial"/>
              </a:rPr>
              <a:t>краткосрочном равновесии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, при котором уровень цен на конечную продукцию и реальный национальный продукт устанавливаются на основе равенства совокупного спроса и совокупного предложения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9" name="Picture 5" descr="image065"/>
          <p:cNvPicPr/>
          <p:nvPr/>
        </p:nvPicPr>
        <p:blipFill>
          <a:blip r:embed="rId1"/>
          <a:srcRect l="0" t="0" r="0" b="54407"/>
          <a:stretch/>
        </p:blipFill>
        <p:spPr>
          <a:xfrm>
            <a:off x="1763640" y="2825640"/>
            <a:ext cx="5473800" cy="403236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55640" y="1827360"/>
            <a:ext cx="7927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Макроэкономическое равновесие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– это такое состояние экономической системы, когда достигнута совокупная сбалансированность, пропорциональность между экономическими потоками товаров, услуг и факторов производства, доходов и расходов, спросом и предложением, материально вещественными и финансовыми потоками и пр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313760" cy="25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Состояние экономики, которое возникает при пересечении трех кривых: кривой совокупного спроса ( AD ), краткосрочной кривой совокупного предложения ( AS ) и долгосрочной кривой совокупного предложения ( LAS ), является долгосрочным равновесием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3" name="Picture 5" descr="image065"/>
          <p:cNvPicPr/>
          <p:nvPr/>
        </p:nvPicPr>
        <p:blipFill>
          <a:blip r:embed="rId1"/>
          <a:srcRect l="0" t="51008" r="0" b="9253"/>
          <a:stretch/>
        </p:blipFill>
        <p:spPr>
          <a:xfrm>
            <a:off x="1763640" y="2781360"/>
            <a:ext cx="5616720" cy="360828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3013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сновные модели макроэкономического равновесия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248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Франсуа Кенэ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 (1694-1774)</a:t>
            </a:r>
            <a:r>
              <a:rPr b="1" lang="ru-RU" sz="2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– </a:t>
            </a:r>
            <a:r>
              <a:rPr b="0" lang="ru-RU" sz="2200" spc="-1" strike="noStrike">
                <a:solidFill>
                  <a:srgbClr val="006666"/>
                </a:solidFill>
                <a:latin typeface="Verdana"/>
              </a:rPr>
              <a:t>французский экономист XVIII в, </a:t>
            </a:r>
            <a:r>
              <a:rPr b="0" lang="ru-RU" sz="2200" spc="-1" strike="noStrike">
                <a:solidFill>
                  <a:srgbClr val="006666"/>
                </a:solidFill>
                <a:latin typeface="Arial"/>
              </a:rPr>
              <a:t>глава школы физиократов. Разделив общество на три класса: землевладельцев, фермеров и ремесленников, в зависимости от их участия в воспроизводственном процессе, он показал, где создается совокупный и чистый продукт, как он распределяется, где возникают доходы, как возмещаются издерж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4" descr="Kene_01"/>
          <p:cNvPicPr/>
          <p:nvPr/>
        </p:nvPicPr>
        <p:blipFill>
          <a:blip r:embed="rId1"/>
          <a:stretch/>
        </p:blipFill>
        <p:spPr>
          <a:xfrm>
            <a:off x="684360" y="1916280"/>
            <a:ext cx="3346200" cy="403200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99640" y="301320"/>
            <a:ext cx="778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Arial"/>
              </a:rPr>
              <a:t>Жан Батист Сэй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355640" y="1827360"/>
            <a:ext cx="453708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Жан Батист Сэй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 (1767-1832), французский экономист, широко пропагандировавший идеи А.Смита во Франции. Согласно позиции Сэя, предложение создает свой собственный спрос, товары создаются лишь для того, чтобы на вырученные деньги получить какие-либо блага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5" descr="http://www.internet-school.ru/@@167983"/>
          <p:cNvPicPr/>
          <p:nvPr/>
        </p:nvPicPr>
        <p:blipFill>
          <a:blip r:embed="rId1"/>
          <a:stretch/>
        </p:blipFill>
        <p:spPr>
          <a:xfrm>
            <a:off x="1187280" y="1916280"/>
            <a:ext cx="2945160" cy="410508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1640" y="301320"/>
            <a:ext cx="7711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Леон Вальрас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4392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Вальрас Леон (1834-1910) - французский экономист, живший в Швейцарии.</a:t>
            </a:r>
            <a:r>
              <a:rPr b="0" lang="ru-RU" sz="2100" spc="-1" strike="noStrike">
                <a:solidFill>
                  <a:srgbClr val="006666"/>
                </a:solidFill>
                <a:latin typeface="Verdana"/>
              </a:rPr>
              <a:t> Он исходил из того, что проблема общего экономического равновесия решаема, и это можно доказать математически. </a:t>
            </a: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 Основную роль в системе Вальраса играют равновесные цены, т.е. цены, обеспечивающие равенство спроса и предложения для каждого товара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4" descr="leonwalras"/>
          <p:cNvPicPr/>
          <p:nvPr/>
        </p:nvPicPr>
        <p:blipFill>
          <a:blip r:embed="rId1"/>
          <a:stretch/>
        </p:blipFill>
        <p:spPr>
          <a:xfrm>
            <a:off x="5076720" y="1557360"/>
            <a:ext cx="3170520" cy="424800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Arial"/>
              </a:rPr>
              <a:t>Макроэкономическое равновесие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476360" y="2205000"/>
            <a:ext cx="705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краткосрочное                             долгосрочное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(текущее)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5"/>
          <p:cNvSpPr/>
          <p:nvPr/>
        </p:nvSpPr>
        <p:spPr>
          <a:xfrm flipH="1">
            <a:off x="3203640" y="1557360"/>
            <a:ext cx="504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5796000" y="1557360"/>
            <a:ext cx="431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258920" y="3141720"/>
            <a:ext cx="720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Arial"/>
              </a:rPr>
              <a:t>Макроэкономическое равновесие</a:t>
            </a:r>
            <a:endParaRPr b="0" i="1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1258920" y="3716280"/>
            <a:ext cx="748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042920" y="465300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идеальное                                      реальное</a:t>
            </a: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(теоретически желаемое)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2916360" y="378936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6084720" y="3789360"/>
            <a:ext cx="648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Arial"/>
              </a:rPr>
              <a:t>Макроэкономическое равновесие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11280" y="2060640"/>
            <a:ext cx="2448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Verdana"/>
              </a:rPr>
              <a:t>Частичное 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(установив-шееся в отдельных отраслях и сферах экономики)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10"/>
          <p:cNvSpPr/>
          <p:nvPr/>
        </p:nvSpPr>
        <p:spPr>
          <a:xfrm flipH="1">
            <a:off x="2050920" y="1557360"/>
            <a:ext cx="720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3635280" y="2852640"/>
            <a:ext cx="1944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Verdana"/>
              </a:rPr>
              <a:t>Общее </a:t>
            </a:r>
            <a:endParaRPr b="0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(равновесие экономической системы в целом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4572000" y="1557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6012000" y="2421000"/>
            <a:ext cx="2592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Полное (</a:t>
            </a:r>
            <a:r>
              <a:rPr b="1" i="1" lang="ru-RU" sz="2000" spc="-1" strike="noStrike">
                <a:solidFill>
                  <a:srgbClr val="006666"/>
                </a:solidFill>
                <a:latin typeface="Verdana"/>
              </a:rPr>
              <a:t>оптимальная сбалансированность 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экономической системы, ее идеальная пропорциональность – высшая цель структурной политики общества)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6372360" y="1557360"/>
            <a:ext cx="43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6666"/>
                </a:solidFill>
                <a:latin typeface="Arial"/>
              </a:rPr>
              <a:t>Макроэкономическое равновесие</a:t>
            </a:r>
            <a:endParaRPr b="0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31640" y="2421000"/>
            <a:ext cx="334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6666"/>
                </a:solidFill>
                <a:latin typeface="Arial"/>
              </a:rPr>
              <a:t>Устойчиво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(в ответ н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внешний импульс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разрушающи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равновесие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экономик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самостоятельно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возвращается в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устойчиво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состояние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4932360" y="2349360"/>
            <a:ext cx="287964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6666"/>
                </a:solidFill>
                <a:latin typeface="Arial"/>
              </a:rPr>
              <a:t>Неустойчивое</a:t>
            </a:r>
            <a:r>
              <a:rPr b="0" lang="ru-RU" sz="2500" spc="-1" strike="noStrike">
                <a:solidFill>
                  <a:srgbClr val="006666"/>
                </a:solidFill>
                <a:latin typeface="Verdana"/>
              </a:rPr>
              <a:t>  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66"/>
                </a:solidFill>
                <a:latin typeface="Arial"/>
              </a:rPr>
              <a:t>(после внешнего воздействия экономика не может восстановиться самостоятельно, то равновесие называют) </a:t>
            </a:r>
            <a:endParaRPr b="0" i="1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Line 5"/>
          <p:cNvSpPr/>
          <p:nvPr/>
        </p:nvSpPr>
        <p:spPr>
          <a:xfrm flipH="1">
            <a:off x="2771280" y="1557360"/>
            <a:ext cx="1079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5219640" y="155736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 "/>
          <p:cNvPicPr/>
          <p:nvPr/>
        </p:nvPicPr>
        <p:blipFill>
          <a:blip r:embed="rId1"/>
          <a:stretch/>
        </p:blipFill>
        <p:spPr>
          <a:xfrm>
            <a:off x="1763640" y="2060640"/>
            <a:ext cx="5472360" cy="4384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7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i="1" lang="ru-RU" sz="3600" spc="-1" strike="noStrike">
                <a:solidFill>
                  <a:srgbClr val="006666"/>
                </a:solidFill>
                <a:latin typeface="Arial"/>
              </a:rPr>
              <a:t>Равновесие на рынке благ             </a:t>
            </a:r>
            <a:r>
              <a:rPr b="0" i="1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i="1" lang="ru-RU" sz="2500" spc="-1" strike="noStrike">
                <a:solidFill>
                  <a:srgbClr val="006666"/>
                </a:solidFill>
                <a:latin typeface="Arial"/>
              </a:rPr>
              <a:t>(классическая концепция)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отребле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АВТОНОМНОЕ ПОТРЕБЛЕНИЕ - та часть потребительских расходов населения или та часть его потребления, которая не зависит от величины национального дохода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ИНДУЦИРОВАННОЕ ПОТРЕБЛЕНИЕ - та часть потребления населения, которая находится в зависимости от размера национального дохода и изменяется вместе с изменением наци­онального дохода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4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7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66"/>
                </a:solidFill>
                <a:latin typeface="Arial"/>
              </a:rPr>
              <a:t>Предельная склонность к потреблению и предельная склонность к сбережениям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66"/>
                </a:solidFill>
                <a:latin typeface="Arial"/>
              </a:rPr>
              <a:t>Отношение приращения потребления к приращению дохода называется ПРЕДЕЛЬНОЙ СКЛОННОСТЬЮ К ПОТРЕБЛЕНИЮ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66"/>
                </a:solidFill>
                <a:latin typeface="Arial"/>
              </a:rPr>
              <a:t>Отношение приращения сбережений к приращению дохода называется ПРЕДЕЛЬНОЙ СКЛОННОСТЬЮ К СБЕРЕЖЕНИЯМ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1187280" y="1341360"/>
            <a:ext cx="77058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99640" y="301680"/>
            <a:ext cx="7783560" cy="22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национальный доход - 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Q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;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потребление - С; сбережения - 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S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; приращение дохода, приращение потребления и приращение сбережений соответственно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  <a:ea typeface="Arial"/>
              </a:rPr>
              <a:t>∆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Q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,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  <a:ea typeface="Arial"/>
              </a:rPr>
              <a:t>∆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С и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  <a:ea typeface="Arial"/>
              </a:rPr>
              <a:t>∆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S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; предельная склонность к потреблению — </a:t>
            </a:r>
            <a:r>
              <a:rPr b="0" i="1" lang="ru-RU" sz="2500" spc="-1" strike="noStrike">
                <a:solidFill>
                  <a:srgbClr val="006666"/>
                </a:solidFill>
                <a:latin typeface="Times New Roman"/>
              </a:rPr>
              <a:t>с</a:t>
            </a:r>
            <a:r>
              <a:rPr b="0" lang="en-US" sz="23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и предельная склонность к сбережениям — </a:t>
            </a:r>
            <a:r>
              <a:rPr b="0" i="1" lang="en-US" sz="2300" spc="-1" strike="noStrike">
                <a:solidFill>
                  <a:srgbClr val="006666"/>
                </a:solidFill>
                <a:latin typeface="Arial"/>
              </a:rPr>
              <a:t>s</a:t>
            </a:r>
            <a:r>
              <a:rPr b="0" lang="ru-RU" sz="2300" spc="-1" strike="noStrike">
                <a:solidFill>
                  <a:srgbClr val="006666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5640" y="27432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 =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Q =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 =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Q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 =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Arial"/>
              </a:rPr>
              <a:t>∆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Q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 + s = 1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08:02:27Z</dcterms:created>
  <dc:creator>Anna</dc:creator>
  <dc:description/>
  <dc:language>en-US</dc:language>
  <cp:lastModifiedBy>LEGION</cp:lastModifiedBy>
  <dcterms:modified xsi:type="dcterms:W3CDTF">2016-01-04T14:02:55Z</dcterms:modified>
  <cp:revision>20</cp:revision>
  <dc:subject/>
  <dc:title>Макроэкономическое равновесие</dc:title>
</cp:coreProperties>
</file>